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243-188D-421B-82BC-551F71B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4A3-99BC-44DD-844B-4A54F24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A3B-28F7-4CD9-ACC2-CA8585BB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80C-1633-47F9-BFE3-2BD1D927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2C48-EBCA-409C-B2FB-E9A0075E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D15-C3F3-4670-9D63-E49266BD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C0D0-532F-496F-A207-2FB2369B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5B22-A301-43BD-9096-35F2391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0A45-6E34-443C-B61F-66D9DD9B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6220-1266-4079-A97D-C9DFBFAB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041-7914-4DAF-9CB7-42D343E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339-FFD2-485B-94E5-0E7740D6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2C1-8CAE-400E-8C02-E030B33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0B58-FA7C-428D-9EF8-10C23A2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9E1-6098-4B45-A18C-5591551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333A-E725-46A0-B68F-ABE5EA71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F0E-0C14-44BF-8A1F-59D0CC8F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F0D-CE7D-4BFF-BB42-9E6B68E2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682-4B99-4E23-9EC6-5227CF1E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71E-182F-4C6B-B318-856AE6B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296-FFF2-422E-8F8E-889EA026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093-6ACC-4B4E-893C-41BF7E5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0F1-C9A0-43FE-942A-10BC8CA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E1E-7F7C-423A-B365-3406EEE6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A5D6-0624-4271-96BB-D590BE934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34F1-3CF9-4439-A9DC-7218342CCEE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ultiplying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itive &amp; Negative Number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1120" y="358128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 x 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623736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Comic Sans MS"/>
              </a:rPr>
              <a:t>©</a:t>
            </a:r>
            <a:r>
              <a:rPr b="0" lang="en-GB" sz="1000" spc="-1" strike="noStrike">
                <a:solidFill>
                  <a:srgbClr val="996600"/>
                </a:solidFill>
                <a:latin typeface="Comic Sans MS"/>
              </a:rPr>
              <a:t>Microsoft Word cli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ultiplying A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itive Times A Negativ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828800"/>
            <a:ext cx="41148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um bel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590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514600"/>
            <a:ext cx="419076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um means 5 lots of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343400"/>
            <a:ext cx="259092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952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638680"/>
            <a:ext cx="67820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1: A plus times a minus or a minus times a plus makes a mi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3124080"/>
            <a:ext cx="365760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: Try Th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343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-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-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ultiplying A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egative Times A Negativ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523880"/>
            <a:ext cx="5029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number patter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5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666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4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3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343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876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5486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1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133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019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52320" y="2438280"/>
            <a:ext cx="4191480" cy="3200400"/>
            <a:chOff x="3352320" y="2438280"/>
            <a:chExt cx="4191480" cy="3200400"/>
          </a:xfrm>
        </p:grpSpPr>
        <p:sp>
          <p:nvSpPr>
            <p:cNvPr id="129" name=""/>
            <p:cNvSpPr/>
            <p:nvPr/>
          </p:nvSpPr>
          <p:spPr>
            <a:xfrm>
              <a:off x="3581280" y="2438280"/>
              <a:ext cx="1447920" cy="1219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504960" y="2971440"/>
              <a:ext cx="1523880" cy="762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504960" y="3580920"/>
              <a:ext cx="152388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428640" y="3809880"/>
              <a:ext cx="160020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52320" y="3886200"/>
              <a:ext cx="175284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320" y="3886200"/>
              <a:ext cx="1752840" cy="1143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352320" y="3886200"/>
              <a:ext cx="1676520" cy="1752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0600" y="3429000"/>
              <a:ext cx="27432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k at the pat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267080" y="2286000"/>
            <a:ext cx="4572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2 : A negative times a negative or  a positive times a positive makes a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657600"/>
            <a:ext cx="327672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Try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–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5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6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105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 8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 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7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371600"/>
            <a:ext cx="381024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hese examples yoursel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057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–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8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7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7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429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 5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6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14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4876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–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1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2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 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7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27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 –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 8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– 2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14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2 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3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4800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1) – 2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-10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486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) 1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9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2057400"/>
            <a:ext cx="76212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743200"/>
            <a:ext cx="76212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429000"/>
            <a:ext cx="76212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7617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876920"/>
            <a:ext cx="7617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638680"/>
            <a:ext cx="76176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1981080"/>
            <a:ext cx="76212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2666880"/>
            <a:ext cx="76176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352680"/>
            <a:ext cx="76212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4038480"/>
            <a:ext cx="76212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4724280"/>
            <a:ext cx="761760" cy="6098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5562720"/>
            <a:ext cx="761760" cy="6094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5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4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7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1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4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8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15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85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2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55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90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7:30:55Z</dcterms:created>
  <dc:creator>LT Scotland</dc:creator>
  <dc:description/>
  <dc:language>en-US</dc:language>
  <cp:lastModifiedBy>LTS</cp:lastModifiedBy>
  <dcterms:modified xsi:type="dcterms:W3CDTF">2004-08-06T13:21:18Z</dcterms:modified>
  <cp:revision>15</cp:revision>
  <dc:subject/>
  <dc:title>Positive &amp; Negative Numbers 3</dc:title>
</cp:coreProperties>
</file>